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A9C-3E98-4121-B398-6CD24329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85F-CC4F-4B9E-8231-592A3D7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AB0-DCBC-4EBE-AD92-EB4F7871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BDF-C05E-4759-A15C-7D5B4F96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FF4D-A0DB-44B9-971E-87DB08B4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E873-B302-4115-98A6-491A48CD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3C69-8932-4B68-A0B7-12E04FCE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C28A-6EE4-4B06-A89A-8071A475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F48E-A92C-4E9F-9392-3785D16B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4D2C-B66A-449B-A62E-009E7B6D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F396-EE23-4DD2-BCB6-9BEC0841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233-DA38-410B-BC73-01A8AA98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E70C-349D-4FB8-894C-1112966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A13D-7593-46D8-8C51-7E7AABA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2C7-4672-4103-90F2-9BDA1D54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95FE-C053-4882-8A68-099EF458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929-5258-46BE-A1D6-3BEA7FC7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15C-89A9-4BC0-B635-295425F2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435-4988-49A7-9FA2-0C8E8265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C76-37B7-4268-B242-CE817428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5CF-1B42-4C55-8557-1A93834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213-BB6D-425A-8B86-547CF0C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EF1-A8A4-4D55-8E8A-0638EFE7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1BF-F1BB-4E22-8610-DA4D0975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1B9E-3B31-498F-B0D2-A09F48B1AB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0990-D2C0-4B6E-9102-BBB09A7FAEB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етеора – монастыри, парящие в воздух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полнил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еница 9 класс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ОУ «Русская гимназия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менчина Елизаве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48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настоящее время монастырский комплекс Метеора включает в себя 6 действующих монастыр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Почему  всегда люди стремились подняться в воздух?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тому что их манила жажда открыти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тому что хотели пойти наперекор судьб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тремились утвердить себя в мир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скали уедин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тели уйти подальше от ми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то такое Метеор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Комплекс православных монастырей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Метеоры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в Фессалии (центральная часть Греции) – одна из главных достопримечательностей страны. Обители иноков построены на самых вершинах высоких отвесных скал. Этим и объясняется название комплекса – монастыри Метеоры, которое в переводе с греческого означает “парящие в воздухе”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Для чего и кем они создавались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1219320"/>
            <a:ext cx="4267440" cy="5410080"/>
            <a:chOff x="380880" y="1219320"/>
            <a:chExt cx="4267440" cy="54100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42674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380880" y="1219320"/>
              <a:ext cx="4267440" cy="5410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ке на неприступные скалы, спасаясь от мирской суеты и набегов захватчиков, стали собираться монахи, чтобы служить Богу здесь, между небом и землей. Первым из них считается некий Варнава, построивший здесь небольшой скит Святого Духа. Постепенно скалы все больше обживались: подвижники селились в пещерах и расщелинах, проводя дни в созерцании и молитвах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нашеск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чение XV–XVI веков Великий Метеор рос и креп, а на соседних скалах появлялись все новые и новые монастыри. Так образовалось уникальное «монашеское государство» со своим особым укладом жизни. Всего было построено двадцать четрые «парящих» монастыря. В каждом из них помимо монашеских келий, церквей и часовен были общая трапезная, кухня, погреб для хранения продуктов, цистерны для хранения воды (монахи собирали дождевую воду), костницы (оссуарии), а в некоторых монастырях ещё и библиотеки с богатым собранием рукописных и печатных кни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ликий Метеор был почти неприступен. Попасть в него можно было лишь по длинной лестнице, которую монахи убирали при малейшей угроз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о временем вместо лестниц стали использовать специальное подъемное устройство: посетитель садился в сетку, привязанную к длинному канату, а монахи наверху крутили колесо, поднимая гостя в монастыр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648320" y="457200"/>
            <a:ext cx="4267080" cy="6095880"/>
            <a:chOff x="4648320" y="457200"/>
            <a:chExt cx="4267080" cy="609588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648320" y="457200"/>
              <a:ext cx="426708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4648320" y="457200"/>
              <a:ext cx="4267080" cy="609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нашеская аске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монастыре уединение и молчание являются законом. На этих неплодородных скалистых горах, которые стали дворцами для тысячей отшельников – аскетов, научились православные монахи быть мудрыми в мыслях и покорными в самосозна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нутри их живет другой мир, свободный от насилия сил природы и не связанный со времене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кое значение несут в себе эти памятники культуры в настоящее время?</a:t>
            </a: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1988 году монастыри были включены в список объектов всемирного наследия. Метеорские скалы — геологический феномен. Они достигают в высоту 600 метров над уровнем моря и являются редким геологическим явлением. Они образовались более 60 миллионов лет назад и являлись каменистым дном доисторического моря, находившегося на месте равнины.[1] В результате воздействия воды, ветра и перепадов температур получились массивные, как бы зависшие в воздухе каменные столб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Художественное наслед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1600200"/>
            <a:ext cx="4038480" cy="4648320"/>
            <a:chOff x="457200" y="1600200"/>
            <a:chExt cx="4038480" cy="46483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457200" y="1600200"/>
              <a:ext cx="403848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громное наследие представляют собой и сами монастыри, украшенные древними фресками в стиле Критской иконописной школы, имеющие ризницы и богатые библиоте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настырь Тераморф Метеора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VI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01-12-31T21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